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BEB3-5A24-430B-8296-DFC29234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1C6B-9229-4DD4-B893-65FB7C5B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B7DE-F8C0-49DE-A2D5-95C409E6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CE5C-971A-4ED3-A05E-A5F35A0A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F274-552F-47B3-80F3-A1A23BD3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0FF3-0F9A-4DC6-9D90-391893BE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F24F-7636-4D58-BEE3-38D515D3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CA19-14B3-4A42-A565-443618B8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198E-D7D8-4660-BB13-08590FE0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BCF6-AAF5-4296-B79A-BCC5D979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D44B-3B1D-4464-A5C7-F4E69353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7E99-190D-4A88-9631-7CB171C1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073B-31BB-409F-94D4-05070117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44E3-554A-4CE1-A078-35A0CDA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9491-00D8-492E-AA9E-3EFA01B9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2C37-3E52-4B6F-BDE6-3A8EA4F7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78D7-80BC-49BB-87AA-21C2AD17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43EC-134E-4816-A576-265DF059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0886-1D7C-4A29-A63E-778D1B0A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58D3-1AED-49C3-9AA5-0689EBC1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33DC-7932-4B56-9561-580C20A3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8718-E294-4CCA-B2E0-11C88AF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11CF-B030-4B3E-B455-B5CDEC82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6656-F513-48FB-B0C5-C9B9D6C5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8DA2-756C-4820-95A0-31B917E3DB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5A5E-B779-45F0-AD8D-ED1E07464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vate Pilot Certific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ckride T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 a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of the flight planning (except for the weather) the day before the ex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professional from beginning to e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’re unsure of an instruction, 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ke you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ca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instructor signed you off; you’re prepa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Seat Airplane ~$90/hr (60hr = $54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or ~$50/hr (35hr = $175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iner ~$3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ten Exam ~$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lies ~$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: $79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1 flight hours @ $85/hr ($433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.5 hours instruction @ $60/hr ($18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ckride ($35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lies (~$4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ten Exam ($8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: $699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 Should Bu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d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book/practic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ts, AF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compu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el te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eim kit has most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179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 main air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df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get very busy with je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small aircraft traff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reat practice talki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 a to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w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ver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Transpor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 runs to Bedford fro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ewife (Red Line to #7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2764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s of 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sy air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ts of communications practi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ts of practice sharing airsp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ts of airports for cross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rain during the school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 of 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sy air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flights may be delayed on the ground or in the traffic patt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n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locales will have less expensive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gg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a computer backup of your log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lots of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d a pilot friend to ask if you don’t want to ask your instru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e as much as possible before the lesson slot be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ther brief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Plan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flight (if plane is availab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Sugg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mchair fly before and after each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member what you did well, and think about how to impr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you’re tired or not feeling well, take a bre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’t be afraid to cancel a les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en to liveatc.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t more familiar with ATC and airport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r and critique yourself on the rad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y of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ore you fly, the less time it takes to get your license (calendar time and logged flight tim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8229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 Can 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in VFR weather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at any time, day or n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without an instructor approving your flightpl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into/out of any civil U.S. Air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ry passe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can pay up to their equal share of the flight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Fl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419120"/>
            <a:ext cx="7619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 on the 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Class Medical Certific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ired for your first so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t this early in your training or before you beg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 for 3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0% or better on written ex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ke the exam as early as you c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 cannot be taken without an instructor’s write-o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 in the Ai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least 40 hours of flight time (50-70 aver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hours with instru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cross cou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flight over 100nm start to finis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n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instru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 hours so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hours cross cou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flight over 150nm with three land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3440" y="2666880"/>
            <a:ext cx="5753160" cy="382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495680" cy="2992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ypical Les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hour blo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hour of maneuvers/skills practice near air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ep tur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flight/stal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strument fly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ergency procedur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½ hour of pattern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ypes of takeoffs/land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½ hour to park plane, debrief les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lessons may be ground school or longer flights (ex: cross count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’ll Fl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ater: Piper Tomahawk, Cessna 1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Seater: Piper Warrior, Cessna 17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3011400"/>
            <a:ext cx="5790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heckr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a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al Exam cover flight planning, “what if” scenarios, aircraft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Exam is just what it sounds l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rt a cross-country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ic Flight Maneuv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tern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t pass every p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2:00:51Z</dcterms:created>
  <dc:creator>Jeremy Katz</dc:creator>
  <dc:description/>
  <dc:language>en-US</dc:language>
  <cp:lastModifiedBy>Jeremy Katz</cp:lastModifiedBy>
  <dcterms:modified xsi:type="dcterms:W3CDTF">2008-03-18T23:35:15Z</dcterms:modified>
  <cp:revision>23</cp:revision>
  <dc:subject/>
  <dc:title>Private Pilot Certificate</dc:title>
</cp:coreProperties>
</file>